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69B-F629-4B59-9A4A-60ECC791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941-A677-4EF7-AA53-E2828FAA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A6C-66E7-4BDB-8E04-FB401FC3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496-6A65-4B11-9A44-730D0652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159D-A9D6-417C-AC79-B15F185D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C64F-B463-42AF-ADFE-C1F240CE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4690-1601-4D1A-816D-B93D473D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892-794D-4CE7-9EFA-77BB079F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468F-6F37-41F5-92C1-EBDD9489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F170-6567-4435-9FAC-D3D70EC2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A910-C2A3-4460-8306-FDAFF90A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A51-5B2F-46D0-8E65-04D87948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5133-CDB5-4638-BBE4-90079691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AEA4-29CB-458D-919A-F7438860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1C89-B89E-43A1-8AEB-80860678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1028-6C2A-46C4-AAAA-C8D9ABF9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4A8B-0E43-4370-B343-E2E0238F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26C-8C17-4678-A7D8-05040560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09A-967B-4FF4-9DC3-5143742A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BC3-4876-468D-ACE3-537A8BA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FA6-F142-4845-9247-369F95FA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69E-6F0B-45DD-ADBC-BCD82630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02C-5788-4CB8-8F23-14D9E85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96F-46A0-4DF5-B8AB-50A067FF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2C66-030D-422F-9B1A-0794947A5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6C03-9EAE-4D20-9E50-E8EA4E078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peror Pengui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rari McNul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8F8E-D12D-4026-8D5C-A23942858458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audience members will be able to name the habitat, adaptation  and environment of the Emperor Pengu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 how you make money:  who will see your movi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s and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will your movie be special and differ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be somewhat different because it’s a seventh grader making this movie; the information will be towards, mainly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ders, but also towards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50:02Z</dcterms:created>
  <dc:creator/>
  <dc:description/>
  <dc:language>en-US</dc:language>
  <cp:lastModifiedBy>City School</cp:lastModifiedBy>
  <dcterms:modified xsi:type="dcterms:W3CDTF">2013-02-19T21:10:34Z</dcterms:modified>
  <cp:revision>38</cp:revision>
  <dc:subject/>
  <dc:title>The Pitch-Then-Plan Business Planning Template</dc:title>
</cp:coreProperties>
</file>